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B429785C-69EB-47C7-8E22-B002D64753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1F3-A8E5-40A4-BB8D-51983C7A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C11-B968-4764-A23C-7815FA5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E5C-02EC-441D-A7C3-4D42DB3E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64A-F453-4416-AA8C-DBA90F57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146-372E-4219-9F5F-DC8A0803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6CF-C5C7-44AB-AE34-054CB55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C64-7D11-4997-9F55-1D5DFF59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EE3-B487-4938-8125-82448900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6FF-1A7B-4E24-A87A-21B25151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894-2C03-4D1F-A869-18E4BE7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2A8-DF51-42CA-8490-553DF5C9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697-7D6C-4B95-8244-54978697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5B0573-10A1-4950-BFBA-6D2638AB42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01360" y="2065320"/>
            <a:ext cx="49568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Love The Lord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1189080"/>
            <a:ext cx="906768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1189080"/>
            <a:ext cx="906768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8360" y="1189080"/>
            <a:ext cx="906768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(repeat)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praise You (repeat)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 (repeat)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trust You (repeat)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68360" y="1189080"/>
            <a:ext cx="9067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68360" y="1189080"/>
            <a:ext cx="9067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Wade, Peter</cp:lastModifiedBy>
  <dcterms:modified xsi:type="dcterms:W3CDTF">2016-02-17T22:10:33Z</dcterms:modified>
  <cp:revision>1922</cp:revision>
  <dc:subject/>
  <dc:title>Slide 1</dc:title>
</cp:coreProperties>
</file>